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70C05-2FEF-47BF-ADE0-6AA7C287D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719B8-F604-4F37-A11E-C74E8ABFB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6088C-D951-4275-90F1-536C4D08F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EF571-2F1D-45BF-AC0F-E261A5229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F10D8-E87E-41AF-88E6-ECC32CD5F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44DDE-E846-48E0-9950-6835CCD0B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08754-2E05-4D90-96B1-510D89676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CB692-98AA-4C0E-9350-F1E534652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FA8A7-582D-4478-BC33-EBA866997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394F-A493-46C7-A8D3-0D9A0024B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A94AE-3A69-4216-891F-CEFB0AAB1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3C57E-3386-47D4-8035-D69A846F8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6464-D9E4-47E0-A2F2-F76DD34E4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ommun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ARE JUS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HE S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a:t>
            </a:r>
            <a:r>
              <a:rPr b="0" lang="en-US" sz="4400" spc="-1" strike="noStrike" baseline="30000">
                <a:solidFill>
                  <a:srgbClr val="000000"/>
                </a:solidFill>
                <a:latin typeface="Arial"/>
              </a:rPr>
              <a:t>st</a:t>
            </a:r>
            <a:r>
              <a:rPr b="0" lang="en-US" sz="4400" spc="-1" strike="noStrike">
                <a:solidFill>
                  <a:srgbClr val="000000"/>
                </a:solidFill>
                <a:latin typeface="Arial"/>
              </a:rPr>
              <a:t> Century Skill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21st Century Skills will be address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reativity and Innov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ritical Thinking and Problem Solv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munication and Collabo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formation Literac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dia Literac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CT (Information, Communications and Technology) Litera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lexibility and Adapta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tive and Self-Dire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cial and Cross-Cultural Skil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ductivity and Accounta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eadership and Responsi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ollowing ISTS Standards will be Addressed:</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ollowing ISTS Skills will be addressed:</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Creativity and Innovation</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demonstrate creative thinking, construct knowledge, and develop innovative products and processe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echnology. Studen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pply existing knowledge to generate new ideas, products, or processe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create original works as a means of personal or group expression.</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ommunication and Collaboration</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use digital media and environments to communicate and work collaboratively, including at a distance,</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support individual learning and contribute to the learning of others. Studen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teract, collaborate, and publish with peers, experts, or others employing a variety of digital environmen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media.</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communicate information and ideas effectively to multiple audiences using a variety of media and forma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contribute to project teams to produce original works or solve problem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Research and Information Fluency</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apply digital tools to gather, evaluate, and use information. Studen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lan strategies to guide inquiry.</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locate, organize, analyze, evaluate, synthesize, and ethically use information from a variety of sources and</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a.</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evaluate and select information sources and digital tools based on the appropriateness to specific task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process data and report resul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Critical Thinking, Problem Solving, and Decision Making</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use critical thinking skills to plan and conduct research, manage projects, solve problems, and make</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ed decisions using appropriate digital tools and resources. Studen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dentify and define authentic problems and significant questions for investigation.</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plan and manage activities to develop a solution or complete a project.</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collect and analyze data to identify solutions and/or make informed decision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use multiple processes and diverse perspectives to explore alternative solution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Technology Operations and Concep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demonstrate a sound understanding of technology concepts, systems, and operations. Studen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understand and use technology system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select and use applications effectively and productively.</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oubleshoot systems and application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ransfer current knowledge to learning of new technologi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Quizmo, the students will take a multiple choice quiz.  While the students will not know each other’s identity, the students will be able to view a class graph of class knowledge and needs for this unit of stud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Lesson Plans Tool Kit for Smart Board 10, the students will participate in matching vocabulary to definitions as well as indicating true or false on statements about our community ove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 for this Cours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students to become interested in the community in which they liv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students form a sense of pride over the progress and accomplishments as a result of the changes that have occurred over tim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students recognize how important it is to respond positively and productively to changes in jobs, houses, populations, and transportat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tudents experience working collaboratively to accomplish a common go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tudents experience using available technology and practice with desktop publishin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experience in collecting information (research) and communicating what they have learned in a form (ABC Book) that gives the reader information about our community over tim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llect and analyze data/information and to work together to come up with a productive way to communicate the data/information to the readers of our bo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Feedback:</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ites to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for helping students take more responsibility for their own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ing the groups into the most desired way to produce an ABC Book about our Community and the changes it has experienced over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ldren are often under the impression that the way things are in their world is the way things have always been.  It is important that children realize that, over time, things do change.  It is also important that children recognize what influences change, including new inventions and changes in jobs, houses, and population.  This unit will show Front Royal/Warren County from the past as well as what our community is like in the present.  Using what we have learned, we will try to make predictions as to what our community will look like in the fu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WILL WE SPEND LEARNING ABOUT OUR COMMUNITY?</a:t>
            </a:r>
            <a:endParaRPr b="0" lang="en-US" sz="4000" spc="-1" strike="noStrike">
              <a:solidFill>
                <a:srgbClr val="000000"/>
              </a:solidFill>
              <a:latin typeface="Arial"/>
            </a:endParaRPr>
          </a:p>
        </p:txBody>
      </p:sp>
      <p:sp>
        <p:nvSpPr>
          <p:cNvPr id="46" name="PlaceHolder 2"/>
          <p:cNvSpPr>
            <a:spLocks noGrp="1"/>
          </p:cNvSpPr>
          <p:nvPr>
            <p:ph/>
          </p:nvPr>
        </p:nvSpPr>
        <p:spPr>
          <a:xfrm>
            <a:off x="457200" y="1904760"/>
            <a:ext cx="8153280" cy="4221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ctivity is a culminating activity for our unit on the study of Our Community and the Changes it has experienced over time.  It is anticipated that the entire unit will take approximately 2 weeks to complete.  The first week will be spent completing the whole group discussions/activities as well as small group discussions and activities. During the next week, the groups will complete their portion of the proje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5 class periods of 45 minutes each will be used in preparation for completing each group’s part of the final project; 5 class periods of 45 minutes each will be used for the group to complete their assigned chapter of the book.  An additional day to present our chapters before putting into the completed form will be used.   Our final class projects (brochures and digital stories) will then be presented to the HJB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ESSENTIALS FOR THIS UNIT OF STUDY?</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SENTIAL QUESTION AS DEFINED BY THE CURRICULUM FRAMEWORK FOR HISTORY AND SOCIAL SCIENCE (2001) FOR SECOND GRADE IN VIRGINI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How and why have communities changed over tim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ESSENTIALS FOR THIS UNIT OF STUDY?</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ESSENTIAL UNDERSTANDING AS DEFINED BY THE CURRICULUM FRAMEWORK FOR HISTORY AND SOCIAL SCIENCE (2001) FOR SECOND GRADE IN VIRGIN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munities change over time for a variety of reas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ESSENTIALS FOR THIS UNIT OF STUDY?</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SSENTIAL KNOWLEDGE AS DEFINED BY THE CURRICULUM FRAMEWORK FOR HISTORY AND SOCIAL SCIENCE (2001) FOR SECOND GRADE IN VIRGIN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Terms to Know</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mmunity</a:t>
            </a:r>
            <a:r>
              <a:rPr b="0" lang="en-US" sz="2000" spc="-1" strike="noStrike">
                <a:solidFill>
                  <a:srgbClr val="000000"/>
                </a:solidFill>
                <a:latin typeface="Arial"/>
              </a:rPr>
              <a:t>: A place where people live, work, and play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pulation</a:t>
            </a:r>
            <a:r>
              <a:rPr b="0" lang="en-US" sz="2000" spc="-1" strike="noStrike">
                <a:solidFill>
                  <a:srgbClr val="000000"/>
                </a:solidFill>
                <a:latin typeface="Arial"/>
              </a:rPr>
              <a:t>: The number of people living in a community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Transportation</a:t>
            </a:r>
            <a:r>
              <a:rPr b="0" lang="en-US" sz="2000" spc="-1" strike="noStrike">
                <a:solidFill>
                  <a:srgbClr val="000000"/>
                </a:solidFill>
                <a:latin typeface="Arial"/>
              </a:rPr>
              <a:t>: A way of moving people and things from one place to anoth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y people live today is different from the way people lived long ag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ventions have led to changes in buildings, jobs, transportation, and populations of communities over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questions will be addressed during this uni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Essential Questions</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Why does change happen?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Is all change good?</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What would you change and how would     </a:t>
            </a:r>
            <a:r>
              <a:rPr b="0" lang="en-US" sz="2800" spc="-1" strike="noStrike">
                <a:solidFill>
                  <a:srgbClr val="000000"/>
                </a:solidFill>
                <a:latin typeface="Arial"/>
              </a:rPr>
              <a:t>	</a:t>
            </a:r>
            <a:r>
              <a:rPr b="0" lang="en-US" sz="2800" spc="-1" strike="noStrike">
                <a:solidFill>
                  <a:srgbClr val="000000"/>
                </a:solidFill>
                <a:latin typeface="Arial"/>
              </a:rPr>
              <a:t>  you change it?</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Why do you think it needs to change?</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questions will be addressed during this uni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it Questions</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life like for the people of our community 200 years ago? 100 years ago?  </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jobs did people have?  What kind of houses did they live in? What was the population of our community? How did people travel?</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ings different today?  How are jobs, houses, travel, and population differen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questions will be addressed during this unit?</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ent Questions</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word “community” mea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word “population” mea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word “transportation” mea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people live the same way today as they used to live 100 (200) years ag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new inventions effect the way people live, work, play, and get aroun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ave jobs, home, transportation, and population changed over tim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6:59:57Z</dcterms:created>
  <dc:creator>Pamela L. Foster</dc:creator>
  <dc:description/>
  <dc:language>en-US</dc:language>
  <cp:lastModifiedBy>Pamela L. Foster</cp:lastModifiedBy>
  <dcterms:modified xsi:type="dcterms:W3CDTF">1980-01-04T09:39:26Z</dcterms:modified>
  <cp:revision>9</cp:revision>
  <dc:subject/>
  <dc:title>Our Community:</dc:title>
</cp:coreProperties>
</file>